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BEAE-B3DF-467D-936C-91B2449F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59D-77C3-482D-9F2F-68507FAF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8B1E-497D-4527-A50A-5AC8220C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23B-498E-4FE3-86F2-A42B3DA5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43E2-71AF-415B-BC8D-236B2C49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883E-90C2-4230-BA5D-4370F8CB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1E1F-7FA6-4788-88AB-B9C06554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D71D-045D-401E-A6D5-45C08223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BC5E-7C9B-42E1-9702-FAD9FA2F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EDF9-399A-4C5A-8309-922805C1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C3B7-4DD6-4BC9-A1D7-B98104EE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0EF9-0A26-4323-A610-A9859E01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13E0-F2A1-420E-AB5D-3328F9EE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A3FA-95C3-4FB0-9FE7-522B110E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C446-7776-4AB7-99FE-40ABB452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464D-AE2C-4FE0-9966-B5820679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7A7E-B9C6-42E0-977B-7DB87D4B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88F-3FBD-4F57-A262-4310C937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A72-D5A1-4C18-AE9B-AD06ADED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2B82-8D92-42F8-9308-60FAB1E2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F6D2-93F0-4A38-885B-C18B7E51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BFA0-42B0-456D-8B2A-EC8BA648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F87-11B5-4F52-BE36-2EF61932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CCF7-9B7A-455F-80E1-8031F530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FB37-5306-44A8-9E2F-D60992A3E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2637-859E-4A96-A718-0B8645F5B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Cyberbullyi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iredsafety.org/" TargetMode="External"/><Relationship Id="rId2" Type="http://schemas.openxmlformats.org/officeDocument/2006/relationships/hyperlink" Target="http://www.stopcyberbullying.org/" TargetMode="External"/><Relationship Id="rId3" Type="http://schemas.openxmlformats.org/officeDocument/2006/relationships/hyperlink" Target="http://www.stopcyberbullying.org/" TargetMode="External"/><Relationship Id="rId4" Type="http://schemas.openxmlformats.org/officeDocument/2006/relationships/hyperlink" Target="http://www.stopcyberbullying.org/" TargetMode="External"/><Relationship Id="rId5" Type="http://schemas.openxmlformats.org/officeDocument/2006/relationships/hyperlink" Target="http://www.media-awareness.ca/" TargetMode="External"/><Relationship Id="rId6" Type="http://schemas.openxmlformats.org/officeDocument/2006/relationships/hyperlink" Target="http://www.bullyonline.org/related/cyber.htm" TargetMode="Externa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nternetsuperheroes.org/cyberbullying/" TargetMode="External"/><Relationship Id="rId2" Type="http://schemas.openxmlformats.org/officeDocument/2006/relationships/hyperlink" Target="http://www.netsmartz.org/resources/reallife.htm" TargetMode="External"/><Relationship Id="rId3" Type="http://schemas.openxmlformats.org/officeDocument/2006/relationships/hyperlink" Target="http://www.ncpc.org/parents/cyberbullying.php" TargetMode="External"/><Relationship Id="rId4" Type="http://schemas.openxmlformats.org/officeDocument/2006/relationships/hyperlink" Target="http://www.isafe.org/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The New Bullies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295280"/>
            <a:ext cx="4647960" cy="338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Taking action on cyberbullying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2971440"/>
            <a:ext cx="811044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ber bullying is everyone’s business and the best response is a pro-active or preventativ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we do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at do you have in place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P - Who signs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onsequences if its brok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students report being bull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anonymous alternati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ducation is currently being delivered is this are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early is it being d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ISB:Users:justinm:Desktop:Cyberbullying:BulletinBoard_60.mov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eb Site Tools for Help to Combat Cyberbully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ed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www.wiredsafety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2"/>
              </a:rPr>
              <a:t>www.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3"/>
              </a:rPr>
              <a:t>stopcyberbullying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4"/>
              </a:rPr>
              <a:t>.org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 Awareness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5"/>
              </a:rPr>
              <a:t>www.media-awareness.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y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6"/>
              </a:rPr>
              <a:t>www.bullyonline.org/related/cyber.ht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6019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Super Her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www.internetsuperheroes.org/cyberbullyin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Smartz Workshop Real Life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2"/>
              </a:rPr>
              <a:t>www.netsmartz.org/resources/reallife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Crime Prevention Council - Cyberbul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3"/>
              </a:rPr>
              <a:t>www.ncpc.org/parents/cyberbullying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4"/>
              </a:rPr>
              <a:t>www.isafe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520" y="2666880"/>
            <a:ext cx="84582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ww.cyberbullying.wikispaces.co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1280" y="3044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0280" y="1047600"/>
            <a:ext cx="76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resources used today can be foun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ooking ahead…….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berbullying is harmful to children, and it happens more often than we k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ors and parents must teach children Cybersafety from an early age so that they can safely interact with others on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s and conversations with your child/student is important in deterring and detecting cyberbully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ISB:Users:justinm:Desktop:Cyberbullying:cyberbullying_stop_the_pain.mov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ISB:Users:justinm:Desktop:Cyberbullying:The_Talent_Show.mov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896920" y="38088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alent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ital Stats</a:t>
            </a:r>
            <a:br>
              <a:rPr sz="44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than 1/3 of teachers surveyed said social networking Web sites have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isrupte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heir school’s learning environmen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17524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2286000"/>
            <a:ext cx="42670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3143160"/>
            <a:ext cx="3886200" cy="209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4032360"/>
            <a:ext cx="2590920" cy="23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4876920"/>
            <a:ext cx="2590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71800" y="5715000"/>
            <a:ext cx="1523880" cy="22860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2057400"/>
            <a:ext cx="25905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9% Posting of    R-rated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2% Too much personal information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% Cyberbul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% They’re wasting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% Creation of fake sites for principals/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010280" y="1905120"/>
            <a:ext cx="762120" cy="7617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23" name=""/>
          <p:cNvSpPr/>
          <p:nvPr/>
        </p:nvSpPr>
        <p:spPr>
          <a:xfrm>
            <a:off x="6477120" y="2743200"/>
            <a:ext cx="1371600" cy="106668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MI, Du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410080" y="3657600"/>
            <a:ext cx="928800" cy="928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410080" y="4648320"/>
            <a:ext cx="957240" cy="9903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4191120" y="5346720"/>
            <a:ext cx="1041120" cy="901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227" name=""/>
          <p:cNvSpPr/>
          <p:nvPr/>
        </p:nvSpPr>
        <p:spPr>
          <a:xfrm>
            <a:off x="5668920" y="609300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vey by a recent National School Boards Assn.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rcRect l="1467" t="0" r="0" b="0"/>
          <a:stretch/>
        </p:blipFill>
        <p:spPr>
          <a:xfrm>
            <a:off x="5334120" y="152280"/>
            <a:ext cx="3200400" cy="6553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562720" y="1447920"/>
            <a:ext cx="2666880" cy="47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ivagirl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Hey, loser, watch your bac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mt323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at r u talking abou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ivagirl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hy don't you kill yourself while u r ahead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mt323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y can't you just leave me alon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ivagirl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gly girls like u need to be put in their plac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1905120"/>
            <a:ext cx="4190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ample of cyberbullying on iChat (Apple’s instant messagin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ow common is </a:t>
            </a: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yberbullying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of middle school students have had their feelings hurt on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have visited a Web site bashing another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% have had their password(s) stolen and changed by a b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ly 15% of parents polled knew what cyberbullying w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60958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: wiredsafety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820600" y="380880"/>
            <a:ext cx="389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Kitchen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ISB:Users:justinm:Desktop:Cyberbullying:Kitchen_Talk.mov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8660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160" y="5181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How common do you think cyberbullying is at your school?</a:t>
            </a:r>
            <a:br>
              <a:rPr sz="4000"/>
            </a:br>
            <a:br>
              <a:rPr sz="40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ake the a few minutes now to talk with two of your colleagues from other districts about the prevalence of cyberbullying taking place among your students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8 Forms of Cyberbullying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a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Using inflammatory or vulgar words to provoke an online f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a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tinually sending vicious, mean, or disturbing e-mails to an individ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preading rumors, lies or gossip to hurt a person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u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erso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osting offensive or aggressive messages under another person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8 Forms of Cyberbullying, cont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osting or sharing confidential or compromising information or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ck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ooling someone into sharing personal information which you then post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l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urposefully excluding someone from an online 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berstal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ngoing harassment and denigration that causes a person considerable fear for his/her safe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3:03:49Z</dcterms:created>
  <dc:creator>Judith Tucker</dc:creator>
  <dc:description/>
  <dc:language>en-US</dc:language>
  <cp:lastModifiedBy>ISB</cp:lastModifiedBy>
  <dcterms:modified xsi:type="dcterms:W3CDTF">2007-09-26T02:01:18Z</dcterms:modified>
  <cp:revision>27</cp:revision>
  <dc:subject/>
  <dc:title>The New Bullies</dc:title>
</cp:coreProperties>
</file>